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вторские системы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105B-DA31-432E-98C2-51D4428CBC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классификации можно выделить восемь типов авторских систем, использующих следующие метаф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ценарие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cripting Langu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управление потоком данных (Icon/Flow Contro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др (Fr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очку с языком сценариев (Card/Script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ую шкалу (Time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ерархические объекты (Hierarchical 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медиа-ссылки (Hypermedia Link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ры (Tagg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A4EB-2522-438A-B0A4-EAD0BCF557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оторые из наиболее распространенных авторских сис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mula Graphic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formulagraphics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Lpr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gmedia.com/glpr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yperMetho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hypermethod.com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uthorwa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macromedia.com/software/authorware/productinf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oducts/instruct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Auth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/new_iconauth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 Buil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(www.mediachance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rey.ee/webcompiler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 Maker HTM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(http://bersoft.com/hmhtml/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18AF-2022-40A2-8BA2-80C71452BD3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32:24Z</dcterms:modified>
  <cp:revision>100</cp:revision>
  <dc:subject/>
  <dc:title>Lecture Template </dc:title>
</cp:coreProperties>
</file>